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pct" ContentType="image/x-pict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BFE-4A85-43D2-997B-0E6D2285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423-A9B5-4B44-8309-6DD46D74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4F0-5BA0-4EEF-BE16-EF33FE3C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7544-DD7E-41E3-B6FC-A54241F9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A942-31A2-4169-AD74-E4D9D1C3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5FDE-09B4-4D9D-B26B-1F38A0D05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6BA-6CC9-4287-9A96-6A215F51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E012-B679-4A33-B9C5-97E33E0B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FB34-651A-4DEB-95D9-0D7F6E85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B74F-9C2E-4FCD-966D-81E6026E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7AA-52B9-4C70-A657-3F93BC26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E587-43B9-49DE-B2E0-9D741D51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FCA4-282C-441C-9BEE-A6B4D2B6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92D0-44F7-4675-A021-2771D61F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364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End of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364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End of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838080" y="1828800"/>
            <a:ext cx="6873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Reconstruction e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successes and failures of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72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4"/>
          <p:cNvSpPr/>
          <p:nvPr/>
        </p:nvSpPr>
        <p:spPr>
          <a:xfrm>
            <a:off x="990720" y="5257800"/>
            <a:ext cx="7238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 flipH="1" rot="10792800">
            <a:off x="864000" y="1218600"/>
            <a:ext cx="7391520" cy="1904760"/>
          </a:xfrm>
          <a:prstGeom prst="upArrowCallout">
            <a:avLst>
              <a:gd name="adj1" fmla="val 35072"/>
              <a:gd name="adj2" fmla="val 32212"/>
              <a:gd name="adj3" fmla="val 27593"/>
              <a:gd name="adj4" fmla="val 77709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ffffff"/>
              </a:gs>
            </a:gsLst>
            <a:lin ang="26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143000" y="53784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By balancing the needs of the North and the South, 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Congress’ compromise marked the end of Reco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66680" y="13716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gress resolved the disputed election of 1876 with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romise of 187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5800" y="3200400"/>
            <a:ext cx="807732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utherford B. Hay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me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federal troops were withdra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utherner was appoin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a powerful cabinet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uthern states were guaranteed federal subsid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uild railroads and improve their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ounded Rectangle 4"/>
          <p:cNvSpPr/>
          <p:nvPr/>
        </p:nvSpPr>
        <p:spPr>
          <a:xfrm>
            <a:off x="1843200" y="5153040"/>
            <a:ext cx="54864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4"/>
          <p:cNvSpPr/>
          <p:nvPr/>
        </p:nvSpPr>
        <p:spPr>
          <a:xfrm>
            <a:off x="4572000" y="2057400"/>
            <a:ext cx="373392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/>
          <p:cNvSpPr/>
          <p:nvPr/>
        </p:nvSpPr>
        <p:spPr>
          <a:xfrm>
            <a:off x="762120" y="2085840"/>
            <a:ext cx="3504960" cy="294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914400" y="1143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ffects of Reconstruction changed life for many in the South and the rest of the 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0"/>
          <p:cNvSpPr/>
          <p:nvPr/>
        </p:nvSpPr>
        <p:spPr>
          <a:xfrm>
            <a:off x="914400" y="2284560"/>
            <a:ext cx="3276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For every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-supported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rnized rail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variety of the South’s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572000" y="2293920"/>
            <a:ext cx="373392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or African Americ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African America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nited black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educational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2209680" y="513864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For w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economic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685800" y="2209680"/>
            <a:ext cx="777240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9"/>
          <p:cNvSpPr/>
          <p:nvPr/>
        </p:nvSpPr>
        <p:spPr>
          <a:xfrm>
            <a:off x="38088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ivil War had a lasting effect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e and national poli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514600"/>
          <a:ext cx="3657600" cy="25322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emocratic P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the party of industria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ed with segregation in the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38080" y="2514600"/>
          <a:ext cx="3505320" cy="266868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Republican P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known as the party of Linco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ociated with freeing the sl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me the party of big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Line 19"/>
          <p:cNvSpPr/>
          <p:nvPr/>
        </p:nvSpPr>
        <p:spPr>
          <a:xfrm>
            <a:off x="1066680" y="2971800"/>
            <a:ext cx="716292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0" y="2514600"/>
            <a:ext cx="0" cy="289548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9"/>
          <p:cNvSpPr/>
          <p:nvPr/>
        </p:nvSpPr>
        <p:spPr>
          <a:xfrm>
            <a:off x="457200" y="52578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ver time, Americans chose to let the South tend to its own affairs despite the price paid by newly freed sla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Civil War affected the balance of pow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tween the federal government and the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sus_ch31_s1_USMap"/>
          <p:cNvPicPr/>
          <p:nvPr/>
        </p:nvPicPr>
        <p:blipFill>
          <a:blip r:embed="rId1"/>
          <a:stretch/>
        </p:blipFill>
        <p:spPr>
          <a:xfrm>
            <a:off x="609480" y="2286000"/>
            <a:ext cx="3810240" cy="247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sus_ch12_s3_WhiteHouse"/>
          <p:cNvPicPr/>
          <p:nvPr/>
        </p:nvPicPr>
        <p:blipFill>
          <a:blip r:embed="rId2"/>
          <a:stretch/>
        </p:blipFill>
        <p:spPr>
          <a:xfrm>
            <a:off x="4734000" y="2362320"/>
            <a:ext cx="32670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720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838080" y="1828800"/>
            <a:ext cx="746784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deeme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thern, white Democrat who returned to power after 18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utherford B. Hay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me President through the contested election of 187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mpromise of 1877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lved the contested presidential election of 1876 by giving Hayes the presidency in return for withdrawing the remaining federal troops from the S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1216080" y="2590920"/>
            <a:ext cx="70898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uption throughout the North and South became a more pressing issue. A financial collapse and the North’s unwillingness to maintain an eternal presence in the South eroded the reach of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, a series of Supreme Court decisions gave the federal government less control over the South and ate away at the few protections African Americans had g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216080" y="1828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and why did Reconstruction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6"/>
          <p:cNvSpPr/>
          <p:nvPr/>
        </p:nvSpPr>
        <p:spPr>
          <a:xfrm flipH="1" rot="10792800">
            <a:off x="864000" y="1447200"/>
            <a:ext cx="7391520" cy="1904760"/>
          </a:xfrm>
          <a:prstGeom prst="upArrowCallout">
            <a:avLst>
              <a:gd name="adj1" fmla="val 35072"/>
              <a:gd name="adj2" fmla="val 32212"/>
              <a:gd name="adj3" fmla="val 27593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9"/>
          <p:cNvSpPr/>
          <p:nvPr/>
        </p:nvSpPr>
        <p:spPr>
          <a:xfrm>
            <a:off x="990720" y="16686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y 1872, matters other th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construction drew the nation’s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0"/>
          <p:cNvSpPr/>
          <p:nvPr/>
        </p:nvSpPr>
        <p:spPr>
          <a:xfrm>
            <a:off x="1523880" y="3693960"/>
            <a:ext cx="67820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Immigration increas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North and W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orruption and intri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d become part of local and national govern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73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national banks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762120" y="2209680"/>
            <a:ext cx="7619760" cy="381024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533520" y="12952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wo-term President Grant was popular, but his administrations were marred by scan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066680" y="2422440"/>
            <a:ext cx="3124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tional scand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’s Vice President was in a scheme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teal profits from the railr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bers of Grant’s administration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uspected of corru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800600" y="2424240"/>
            <a:ext cx="3352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ocal scand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Tweed Ring”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tole money from New York City’s treas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city official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old contracts to their frie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cross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57600" y="2971800"/>
            <a:ext cx="0" cy="259092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MPj04328550000[1]"/>
          <p:cNvPicPr/>
          <p:nvPr/>
        </p:nvPicPr>
        <p:blipFill>
          <a:blip r:embed="rId1"/>
          <a:srcRect l="6450" t="0" r="9683" b="4300"/>
          <a:stretch/>
        </p:blipFill>
        <p:spPr>
          <a:xfrm>
            <a:off x="6858000" y="4475160"/>
            <a:ext cx="1981080" cy="1697040"/>
          </a:xfrm>
          <a:prstGeom prst="rect">
            <a:avLst/>
          </a:prstGeom>
          <a:ln w="0">
            <a:noFill/>
          </a:ln>
        </p:spPr>
      </p:pic>
      <p:sp>
        <p:nvSpPr>
          <p:cNvPr id="125" name="Rounded Rectangle 4"/>
          <p:cNvSpPr/>
          <p:nvPr/>
        </p:nvSpPr>
        <p:spPr>
          <a:xfrm>
            <a:off x="838080" y="1447920"/>
            <a:ext cx="7581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838080" y="16002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uncertainty in the 1870s eroded the North’s resolve to sustain Re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447920" y="3052800"/>
            <a:ext cx="609588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873 one of the nation’s mos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influential banks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ank had overextended loans to the railroad indus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ationwide loss of jobs, more bank failures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conomic depression in the Nor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838080" y="2209680"/>
            <a:ext cx="7543800" cy="396252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371600" y="2787480"/>
            <a:ext cx="6553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cal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publicans lost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litary operations in the South becam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oo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1872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he Freedman’s Bureau was diss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ing in 1871, federal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roops were withdra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So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cal Republican leader, Charle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umner di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187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04960" y="1339920"/>
            <a:ext cx="76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dical Republicans’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failure to convict President John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uring his impeachment trial signaled the beginning of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380600" y="2286000"/>
            <a:ext cx="43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The end of Re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4"/>
          <p:cNvSpPr/>
          <p:nvPr/>
        </p:nvSpPr>
        <p:spPr>
          <a:xfrm>
            <a:off x="838080" y="1447920"/>
            <a:ext cx="7581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143000" y="1647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preme Court decisions gave more pow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the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914400" y="2743200"/>
            <a:ext cx="72388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laughterho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he Court restricted the scope of the 14</a:t>
            </a:r>
            <a:r>
              <a:rPr b="0" lang="en-US" sz="2000" spc="-1" strike="noStrike" baseline="30000">
                <a:solidFill>
                  <a:srgbClr val="0033cc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Amend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873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has national rights but it was up to the state to choose how to define the rights for those who lived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876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e process and equal protection clauses only protected citizens from the actions of the state, not other citiz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C:\Documents and Settings\Shelly\Local Settings\Temporary Internet Files\Content.IE5\PNLN44RF\MCj02925760000[1].wmf"/>
          <p:cNvPicPr/>
          <p:nvPr/>
        </p:nvPicPr>
        <p:blipFill>
          <a:blip r:embed="rId1"/>
          <a:stretch/>
        </p:blipFill>
        <p:spPr>
          <a:xfrm>
            <a:off x="6202440" y="2057400"/>
            <a:ext cx="2789280" cy="13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 flipH="1" rot="5400000">
            <a:off x="2085840" y="3505320"/>
            <a:ext cx="1447920" cy="3124080"/>
          </a:xfrm>
          <a:prstGeom prst="upArrowCallout">
            <a:avLst>
              <a:gd name="adj1" fmla="val 25225"/>
              <a:gd name="adj2" fmla="val 25111"/>
              <a:gd name="adj3" fmla="val 38368"/>
              <a:gd name="adj4" fmla="val 5075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495680" y="2209680"/>
            <a:ext cx="3124440" cy="396252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the states gained more rights, southern whites worked to reduce the rights of African Americ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0" y="2532240"/>
            <a:ext cx="2895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thern Democrats created a coalition of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deemers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ed together to “redeem” or reclaim the South from northerners and blac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 flipH="1" rot="5400000">
            <a:off x="2085840" y="1676160"/>
            <a:ext cx="1447920" cy="3124080"/>
          </a:xfrm>
          <a:prstGeom prst="upArrowCallout">
            <a:avLst>
              <a:gd name="adj1" fmla="val 25225"/>
              <a:gd name="adj2" fmla="val 25111"/>
              <a:gd name="adj3" fmla="val 38368"/>
              <a:gd name="adj4" fmla="val 5075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71600" y="28195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K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viol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371600" y="44956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u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legal interpre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07:11Z</dcterms:modified>
  <cp:revision>219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